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641-B5F9-46A5-934D-A8E88856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9166-2225-47B7-A5F8-200C2FA9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F92B-386A-46DE-9D23-B26F344F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9BE7-DFBA-4A29-BABC-AF62AE9E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132C-38E8-4E22-8B40-FC8D2E83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D77B-9274-4F8C-941D-57C54129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F788-74F0-4798-9C10-3666FBA1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6F6E-C92D-469A-AEFB-0EC48754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592A-E43F-48CD-9ECE-81736442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E94C-30EF-404C-8D33-37E5DC68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C0CF-1BA2-44C7-8C38-245EF0E6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C8CE-4A9E-4D52-BFE7-03140DC6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116B-EB66-41C2-B07E-93159778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9497-3D76-4162-8A74-F214A3CD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2076-2712-48B9-9D29-F82F478E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7345-A91C-40ED-B941-9FD11606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E21D-02FF-4AF9-8E09-33FC780A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E1B6-8F39-4703-91F8-D3DFC72D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7FA3-EB26-4BD4-A6C6-434E315C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FB1F-5DD7-47C5-8EF7-C28846FD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9F0-C249-45A5-A552-4DC6C275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AB1-72B7-4930-B0C1-C48B68F6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8459-8012-4A90-9982-D30C6F7F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422-3BF4-474E-A381-E681F3F0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D176-910C-4F85-B650-E6FD8D919B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50BE-715B-4A26-9146-DC51A68FD1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lze.Trusinska@vidm.gov.lv" TargetMode="External"/><Relationship Id="rId2" Type="http://schemas.openxmlformats.org/officeDocument/2006/relationships/hyperlink" Target="http://www.vidm.gov.lv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6000" spc="-1" strike="noStrike">
                <a:solidFill>
                  <a:srgbClr val="ffff00"/>
                </a:solidFill>
                <a:latin typeface="Arial"/>
              </a:rPr>
              <a:t>Vides aizsardzības lietu trīspusējās sadarbības apakšpadomes darbība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Vides aizsardzības lietu trīspusējās sadarbības apakšpadomes </a:t>
            </a:r>
            <a:br>
              <a:rPr sz="4000"/>
            </a:b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(turpmāk VALTSA) </a:t>
            </a:r>
            <a:br>
              <a:rPr sz="4000"/>
            </a:b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sastāv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306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s aizsardzības lietu trīspusējās sadarbības apakšpadomē ir 15 pārstāvji (pa 5 no katras puses), kurus deleģē Vides ministrija, Latvijas Brīvo Arodbiedrību savienība un Latvijas Darba Devēju konfederā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VALTSA uzdevum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zskatīt politikas plānošanas un normatīvo aktu projektus, valsts budžeta projekta pamatnostādnes vides aizsardzības jautāju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dalīties vides aizsardzības normatīvo aktu pilnveidošan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dalīties priekšlikumu izstrādāšanā un izskatīt Latvijas nacionālās pozīcijas vides aizsardzības jautāju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Darbības metod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stāvīga informācijas apmaiņ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kšanā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dom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ē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izi divos mēnešos(2007. gadā notikušas 5 sanāksm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tāvīga elektroniskā komunikā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2007. gadā VALTSA sēdēs skatītie jautājum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isijas kvotu sadales plāna 2008.-2012. gadam apstiprināšanas gaita Eiropas Komisij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iācijas iekļaušana Eiropas Savienības emisiju kvotu tirdzniecības sistēm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jaunojamo energoresursu izmantošanas pamatnostādņu  2006.-2013. g. ievieša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ikumu projekts „Noteikumi par elektroenerģijas ražošanu izmantojot atjaunojamos energoresurs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cionālais pārskats par Ilgtspējīgas attīstības stratēģijas īstenoša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kumprojekts „Grozījumi atkritumu apsaimniekošanas likumā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gtspējīga patēriņa, ražošanas Rīcības plā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ļā iepirkuma veicināšana Latvij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ropas Savienības Vides ministru padomes darba kārtības jautāju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2008. gada plānotie jautājumi VALTSA sēdē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erģētikas  un klimata pak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īvas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emisijas kvotu tirdzniecības sistē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ārskatīšan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ēmuma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ltumnīcefekta gāzu emisijā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kuras neaptver ES emisijas kvotu tirdzniecības sistēma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īvas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jaunojamo energoresursu avot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zmantošanu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iācijas radītā ietekme uz klimata pārmaiņā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iropas Savienības Vides padomju izskatāmie darba kārtības jautāju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Zaļais iepirku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Ilze Trušinska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Vides aizsardzības lietu trīspusējās sadarbības apakšpadomes sekretā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Ilze.Trusinska@vidm.gov.l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t. 6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65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vidm.gov.lv/</a:t>
            </a: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sadaļā padomes un konsultatīvās padomes „Vides aizsardzības lietu trīspusējās sadarbības apakšpad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27:45Z</dcterms:created>
  <dc:creator>Aija</dc:creator>
  <dc:description/>
  <dc:language>en-US</dc:language>
  <cp:lastModifiedBy>Sanita Diediske</cp:lastModifiedBy>
  <dcterms:modified xsi:type="dcterms:W3CDTF">2008-05-09T08:36:32Z</dcterms:modified>
  <cp:revision>17</cp:revision>
  <dc:subject/>
  <dc:title>Stratēģijas un koordinācijas departamen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08320886</vt:r8>
  </property>
  <property fmtid="{D5CDD505-2E9C-101B-9397-08002B2CF9AE}" pid="3" name="_AuthorEmail">
    <vt:lpwstr>Ilze.Trusinska@vidm.gov.lv</vt:lpwstr>
  </property>
  <property fmtid="{D5CDD505-2E9C-101B-9397-08002B2CF9AE}" pid="4" name="_AuthorEmailDisplayName">
    <vt:lpwstr>Ilze Trušinska</vt:lpwstr>
  </property>
  <property fmtid="{D5CDD505-2E9C-101B-9397-08002B2CF9AE}" pid="5" name="_EmailSubject">
    <vt:lpwstr>VALTSA darbība_2007. gads</vt:lpwstr>
  </property>
  <property fmtid="{D5CDD505-2E9C-101B-9397-08002B2CF9AE}" pid="6" name="_ReviewingToolsShownOnce">
    <vt:lpwstr/>
  </property>
</Properties>
</file>